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974-7DEA-471A-962B-E0EDDE8C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DAF-D8D6-443E-8D00-E080B5E4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593-5FA2-4C31-999E-1520979E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890-8E73-4E11-AF3F-89623F9B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82C-E7B7-4E53-9173-38D5D8BF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E78-1FDF-488B-8CC8-94F4B176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834-A118-480D-91A6-BCE57AEB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EA1-F310-4701-BEE4-7B4A8480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831-9537-4A71-9643-57D85C2D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4EB-5E6C-4BF4-9C17-398617B6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E76-9401-4BEC-90CA-B99CEAF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52A-1634-4873-970B-F3F3F49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5483-61A1-40B0-9DA2-ED83C7579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bcKids"/>
              </a:rPr>
              <a:t>Making  Class  Books to  Establish Emergent  Behavi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line of print p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placement is consistent on the pages.  A book might have the text always on the left page and the picture on the right.  Or, the text might be on the top left and the picture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high frequency words: I, a, the or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big spaces between words (2 – 3 sp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should be easy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ce structure should be very close to children’s natural langu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nguage of the text should be a repeating pat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words should be cued by the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clear distinction between the picture and the pr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punctuation is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ctures provide a high level of sup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7:35:27Z</dcterms:created>
  <dc:creator>Technology Services</dc:creator>
  <dc:description/>
  <dc:language>en-US</dc:language>
  <cp:lastModifiedBy>Technology Services</cp:lastModifiedBy>
  <dcterms:modified xsi:type="dcterms:W3CDTF">2006-01-17T18:16:53Z</dcterms:modified>
  <cp:revision>2</cp:revision>
  <dc:subject/>
  <dc:title>Slide 1</dc:title>
</cp:coreProperties>
</file>